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258920" y="4194000"/>
            <a:ext cx="6337440" cy="2689200"/>
            <a:chOff x="1258920" y="4194000"/>
            <a:chExt cx="6337440" cy="2689200"/>
          </a:xfrm>
        </p:grpSpPr>
        <p:pic>
          <p:nvPicPr>
            <p:cNvPr id="41" name="文本占位符 2" descr=""/>
            <p:cNvPicPr/>
            <p:nvPr/>
          </p:nvPicPr>
          <p:blipFill>
            <a:blip r:embed="rId1"/>
            <a:stretch/>
          </p:blipFill>
          <p:spPr>
            <a:xfrm>
              <a:off x="1258920" y="4194000"/>
              <a:ext cx="63374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1548000" y="4246560"/>
              <a:ext cx="5257800" cy="1223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3" name="文本占位符 2" descr=""/>
          <p:cNvPicPr/>
          <p:nvPr/>
        </p:nvPicPr>
        <p:blipFill>
          <a:blip r:embed="rId2"/>
          <a:stretch/>
        </p:blipFill>
        <p:spPr>
          <a:xfrm>
            <a:off x="9144000" y="-167328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44" name="文本占位符 2" descr=""/>
          <p:cNvPicPr/>
          <p:nvPr/>
        </p:nvPicPr>
        <p:blipFill>
          <a:blip r:embed="rId3"/>
          <a:stretch/>
        </p:blipFill>
        <p:spPr>
          <a:xfrm>
            <a:off x="-2374920" y="-1854360"/>
            <a:ext cx="2374920" cy="185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-3022560" y="5084640"/>
            <a:ext cx="3022560" cy="158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144000" y="4653000"/>
            <a:ext cx="2627280" cy="1768320"/>
          </a:xfrm>
          <a:prstGeom prst="rect">
            <a:avLst/>
          </a:prstGeom>
          <a:ln w="0">
            <a:noFill/>
          </a:ln>
        </p:spPr>
      </p:pic>
      <p:pic>
        <p:nvPicPr>
          <p:cNvPr id="47" name="文本占位符 2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-1598760" y="3068640"/>
            <a:ext cx="1598760" cy="264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>
            <a:grayscl/>
            <a:lum contrast="-24000"/>
          </a:blip>
          <a:stretch/>
        </p:blipFill>
        <p:spPr>
          <a:xfrm>
            <a:off x="9685440" y="2997360"/>
            <a:ext cx="1436760" cy="2765160"/>
          </a:xfrm>
          <a:prstGeom prst="rect">
            <a:avLst/>
          </a:prstGeom>
          <a:ln w="0">
            <a:noFill/>
          </a:ln>
        </p:spPr>
      </p:pic>
      <p:pic>
        <p:nvPicPr>
          <p:cNvPr id="49" name="文本占位符 2" descr=""/>
          <p:cNvPicPr/>
          <p:nvPr/>
        </p:nvPicPr>
        <p:blipFill>
          <a:blip r:embed="rId8"/>
          <a:stretch/>
        </p:blipFill>
        <p:spPr>
          <a:xfrm>
            <a:off x="3132000" y="765000"/>
            <a:ext cx="4680000" cy="453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7266E-007 L 0.65451 0.79078 E">
                                      <p:cBhvr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9981E-006 L -0.59045 0.77734 E">
                                      <p:cBhvr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7.40741E-007 L 1.28837 0.00648 E">
                                      <p:cBhvr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-1.33073 -0.4956 E">
                                      <p:cBhvr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1.38195 -0.58796 E">
                                      <p:cBhvr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1065 L -1.35226 0.00764 E">
                                      <p:cBhvr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50760"/>
            <a:ext cx="7417080" cy="680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979640" y="2637000"/>
            <a:ext cx="489744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经典行书简"/>
              </a:rPr>
              <a:t>奥运圣火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经典行书简"/>
              <a:ea typeface="经典行书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经典行书简"/>
              </a:rPr>
              <a:t>点燃激情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经典行书简"/>
              <a:ea typeface="经典行书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38720"/>
          </a:xfrm>
          <a:prstGeom prst="rect">
            <a:avLst/>
          </a:prstGeom>
          <a:ln w="0">
            <a:noFill/>
          </a:ln>
        </p:spPr>
      </p:pic>
      <p:pic>
        <p:nvPicPr>
          <p:cNvPr id="55" name="帘子" descr="帘子.png"/>
          <p:cNvPicPr/>
          <p:nvPr/>
        </p:nvPicPr>
        <p:blipFill>
          <a:blip r:embed="rId2"/>
          <a:stretch/>
        </p:blipFill>
        <p:spPr>
          <a:xfrm>
            <a:off x="0" y="0"/>
            <a:ext cx="9137520" cy="2179800"/>
          </a:xfrm>
          <a:prstGeom prst="rect">
            <a:avLst/>
          </a:prstGeom>
          <a:ln w="0">
            <a:noFill/>
          </a:ln>
        </p:spPr>
      </p:pic>
      <p:pic>
        <p:nvPicPr>
          <p:cNvPr id="56" name="帘子2" descr="帘子.png"/>
          <p:cNvPicPr/>
          <p:nvPr/>
        </p:nvPicPr>
        <p:blipFill>
          <a:blip r:embed="rId3"/>
          <a:stretch/>
        </p:blipFill>
        <p:spPr>
          <a:xfrm>
            <a:off x="6480" y="5935680"/>
            <a:ext cx="9137520" cy="92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041560" y="3483000"/>
            <a:ext cx="5832360" cy="213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方正隶二简体"/>
              </a:rPr>
              <a:t>领导致辞</a:t>
            </a:r>
            <a:endParaRPr b="1" lang="en-US" sz="6000" spc="-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方正隶二简体"/>
              <a:ea typeface="方正隶二简体"/>
            </a:endParaRPr>
          </a:p>
        </p:txBody>
      </p:sp>
      <p:pic>
        <p:nvPicPr>
          <p:cNvPr id="58" name="文本占位符 2" descr=""/>
          <p:cNvPicPr/>
          <p:nvPr/>
        </p:nvPicPr>
        <p:blipFill>
          <a:blip r:embed="rId4"/>
          <a:stretch/>
        </p:blipFill>
        <p:spPr>
          <a:xfrm rot="20391000">
            <a:off x="-1738080" y="2112480"/>
            <a:ext cx="5286600" cy="530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624640" y="5361120"/>
            <a:ext cx="849240" cy="169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9480"/>
            <a:ext cx="9144000" cy="5078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49360" y="-247680"/>
            <a:ext cx="659448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中倩简体"/>
              </a:rPr>
              <a:t>"</a:t>
            </a: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中倩简体"/>
              </a:rPr>
              <a:t>与奥运同行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中倩简体"/>
              </a:rPr>
              <a:t>"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中倩简体"/>
              <a:ea typeface="方正中倩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中倩简体"/>
              </a:rPr>
              <a:t>颁奖典礼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中倩简体"/>
              <a:ea typeface="方正中倩简体"/>
            </a:endParaRPr>
          </a:p>
        </p:txBody>
      </p:sp>
      <p:pic>
        <p:nvPicPr>
          <p:cNvPr id="62" name="帘子" descr="帘子.png"/>
          <p:cNvPicPr/>
          <p:nvPr/>
        </p:nvPicPr>
        <p:blipFill>
          <a:blip r:embed="rId2"/>
          <a:stretch/>
        </p:blipFill>
        <p:spPr>
          <a:xfrm>
            <a:off x="0" y="0"/>
            <a:ext cx="9137520" cy="2219400"/>
          </a:xfrm>
          <a:prstGeom prst="rect">
            <a:avLst/>
          </a:prstGeom>
          <a:ln w="0">
            <a:noFill/>
          </a:ln>
        </p:spPr>
      </p:pic>
      <p:pic>
        <p:nvPicPr>
          <p:cNvPr id="63" name="帘子2" descr="帘子.png"/>
          <p:cNvPicPr/>
          <p:nvPr/>
        </p:nvPicPr>
        <p:blipFill>
          <a:blip r:embed="rId3"/>
          <a:stretch/>
        </p:blipFill>
        <p:spPr>
          <a:xfrm>
            <a:off x="6480" y="5935680"/>
            <a:ext cx="9137520" cy="922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0840" y="290160"/>
            <a:ext cx="81471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华隶简体"/>
                <a:ea typeface="方正华隶简体"/>
              </a:rPr>
              <a:t>今天，是胜利者的舞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华隶简体"/>
                <a:ea typeface="方正华隶简体"/>
              </a:rPr>
              <a:t>台前演绎的是风光无限  台后演绎的是播种洒汗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6473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汉仪大隶书简"/>
              </a:rPr>
              <a:t>太平洋寿险贵州分公司保费部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14760" y="5283360"/>
            <a:ext cx="157320" cy="204480"/>
          </a:xfrm>
          <a:custGeom>
            <a:avLst/>
            <a:gdLst>
              <a:gd name="textAreaLeft" fmla="*/ 64800 w 157320"/>
              <a:gd name="textAreaRight" fmla="*/ 92520 w 157320"/>
              <a:gd name="textAreaTop" fmla="*/ 84240 h 204480"/>
              <a:gd name="textAreaBottom" fmla="*/ 120240 h 20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"/>
          <p:cNvSpPr/>
          <p:nvPr/>
        </p:nvSpPr>
        <p:spPr>
          <a:xfrm>
            <a:off x="6507000" y="5587920"/>
            <a:ext cx="182880" cy="233280"/>
          </a:xfrm>
          <a:custGeom>
            <a:avLst/>
            <a:gdLst>
              <a:gd name="textAreaLeft" fmla="*/ 75240 w 182880"/>
              <a:gd name="textAreaRight" fmla="*/ 107640 w 182880"/>
              <a:gd name="textAreaTop" fmla="*/ 96120 h 233280"/>
              <a:gd name="textAreaBottom" fmla="*/ 137160 h 23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"/>
          <p:cNvSpPr/>
          <p:nvPr/>
        </p:nvSpPr>
        <p:spPr>
          <a:xfrm>
            <a:off x="449280" y="5567400"/>
            <a:ext cx="214200" cy="231840"/>
          </a:xfrm>
          <a:custGeom>
            <a:avLst/>
            <a:gdLst>
              <a:gd name="textAreaLeft" fmla="*/ 88200 w 214200"/>
              <a:gd name="textAreaRight" fmla="*/ 126000 w 214200"/>
              <a:gd name="textAreaTop" fmla="*/ 95400 h 231840"/>
              <a:gd name="textAreaBottom" fmla="*/ 136440 h 23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"/>
          <p:cNvSpPr/>
          <p:nvPr/>
        </p:nvSpPr>
        <p:spPr>
          <a:xfrm>
            <a:off x="8240760" y="4560840"/>
            <a:ext cx="206280" cy="277920"/>
          </a:xfrm>
          <a:custGeom>
            <a:avLst/>
            <a:gdLst>
              <a:gd name="textAreaLeft" fmla="*/ 84960 w 206280"/>
              <a:gd name="textAreaRight" fmla="*/ 121320 w 206280"/>
              <a:gd name="textAreaTop" fmla="*/ 114480 h 277920"/>
              <a:gd name="textAreaBottom" fmla="*/ 1634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"/>
          <p:cNvSpPr/>
          <p:nvPr/>
        </p:nvSpPr>
        <p:spPr>
          <a:xfrm>
            <a:off x="2932200" y="5526000"/>
            <a:ext cx="215640" cy="227160"/>
          </a:xfrm>
          <a:custGeom>
            <a:avLst/>
            <a:gdLst>
              <a:gd name="textAreaLeft" fmla="*/ 88920 w 215640"/>
              <a:gd name="textAreaRight" fmla="*/ 126720 w 215640"/>
              <a:gd name="textAreaTop" fmla="*/ 93600 h 227160"/>
              <a:gd name="textAreaBottom" fmla="*/ 133560 h 22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133960" y="5432400"/>
            <a:ext cx="139680" cy="196920"/>
          </a:xfrm>
          <a:custGeom>
            <a:avLst/>
            <a:gdLst>
              <a:gd name="textAreaLeft" fmla="*/ 57600 w 139680"/>
              <a:gd name="textAreaRight" fmla="*/ 82080 w 139680"/>
              <a:gd name="textAreaTop" fmla="*/ 81000 h 196920"/>
              <a:gd name="textAreaBottom" fmla="*/ 115920 h 19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9" y="8899"/>
                </a:lnTo>
                <a:lnTo>
                  <a:pt x="10800" y="0"/>
                </a:lnTo>
                <a:lnTo>
                  <a:pt x="12701" y="8899"/>
                </a:lnTo>
                <a:lnTo>
                  <a:pt x="21600" y="10800"/>
                </a:lnTo>
                <a:lnTo>
                  <a:pt x="12701" y="12701"/>
                </a:lnTo>
                <a:lnTo>
                  <a:pt x="10800" y="21600"/>
                </a:lnTo>
                <a:lnTo>
                  <a:pt x="8899" y="1270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"/>
          <p:cNvSpPr/>
          <p:nvPr/>
        </p:nvSpPr>
        <p:spPr>
          <a:xfrm>
            <a:off x="7478640" y="3484440"/>
            <a:ext cx="231840" cy="290520"/>
          </a:xfrm>
          <a:custGeom>
            <a:avLst/>
            <a:gdLst>
              <a:gd name="textAreaLeft" fmla="*/ 95760 w 231840"/>
              <a:gd name="textAreaRight" fmla="*/ 136080 w 231840"/>
              <a:gd name="textAreaTop" fmla="*/ 119880 h 290520"/>
              <a:gd name="textAreaBottom" fmla="*/ 170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26" y="8926"/>
                </a:lnTo>
                <a:lnTo>
                  <a:pt x="10800" y="0"/>
                </a:lnTo>
                <a:lnTo>
                  <a:pt x="12674" y="8926"/>
                </a:lnTo>
                <a:lnTo>
                  <a:pt x="21600" y="10800"/>
                </a:lnTo>
                <a:lnTo>
                  <a:pt x="12674" y="12674"/>
                </a:lnTo>
                <a:lnTo>
                  <a:pt x="10800" y="21600"/>
                </a:lnTo>
                <a:lnTo>
                  <a:pt x="8926" y="126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"/>
          <p:cNvSpPr/>
          <p:nvPr/>
        </p:nvSpPr>
        <p:spPr>
          <a:xfrm>
            <a:off x="792000" y="5302080"/>
            <a:ext cx="184320" cy="249480"/>
          </a:xfrm>
          <a:custGeom>
            <a:avLst/>
            <a:gdLst>
              <a:gd name="textAreaLeft" fmla="*/ 75960 w 184320"/>
              <a:gd name="textAreaRight" fmla="*/ 108360 w 184320"/>
              <a:gd name="textAreaTop" fmla="*/ 102600 h 249480"/>
              <a:gd name="textAreaBottom" fmla="*/ 146880 h 24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"/>
          <p:cNvSpPr/>
          <p:nvPr/>
        </p:nvSpPr>
        <p:spPr>
          <a:xfrm>
            <a:off x="7802640" y="5424480"/>
            <a:ext cx="193680" cy="284040"/>
          </a:xfrm>
          <a:custGeom>
            <a:avLst/>
            <a:gdLst>
              <a:gd name="textAreaLeft" fmla="*/ 79920 w 193680"/>
              <a:gd name="textAreaRight" fmla="*/ 113760 w 193680"/>
              <a:gd name="textAreaTop" fmla="*/ 117000 h 284040"/>
              <a:gd name="textAreaBottom" fmla="*/ 167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"/>
          <p:cNvSpPr/>
          <p:nvPr/>
        </p:nvSpPr>
        <p:spPr>
          <a:xfrm>
            <a:off x="465120" y="4832280"/>
            <a:ext cx="201600" cy="190440"/>
          </a:xfrm>
          <a:custGeom>
            <a:avLst/>
            <a:gdLst>
              <a:gd name="textAreaLeft" fmla="*/ 83160 w 201600"/>
              <a:gd name="textAreaRight" fmla="*/ 118440 w 20160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"/>
          <p:cNvSpPr/>
          <p:nvPr/>
        </p:nvSpPr>
        <p:spPr>
          <a:xfrm>
            <a:off x="620640" y="5046840"/>
            <a:ext cx="212760" cy="220320"/>
          </a:xfrm>
          <a:custGeom>
            <a:avLst/>
            <a:gdLst>
              <a:gd name="textAreaLeft" fmla="*/ 87480 w 212760"/>
              <a:gd name="textAreaRight" fmla="*/ 125280 w 212760"/>
              <a:gd name="textAreaTop" fmla="*/ 90720 h 220320"/>
              <a:gd name="textAreaBottom" fmla="*/ 129600 h 22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"/>
          <p:cNvSpPr/>
          <p:nvPr/>
        </p:nvSpPr>
        <p:spPr>
          <a:xfrm>
            <a:off x="689040" y="5643720"/>
            <a:ext cx="135000" cy="156960"/>
          </a:xfrm>
          <a:custGeom>
            <a:avLst/>
            <a:gdLst>
              <a:gd name="textAreaLeft" fmla="*/ 55440 w 135000"/>
              <a:gd name="textAreaRight" fmla="*/ 79560 w 135000"/>
              <a:gd name="textAreaTop" fmla="*/ 64800 h 156960"/>
              <a:gd name="textAreaBottom" fmla="*/ 92160 h 1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"/>
          <p:cNvSpPr/>
          <p:nvPr/>
        </p:nvSpPr>
        <p:spPr>
          <a:xfrm>
            <a:off x="4206960" y="5748480"/>
            <a:ext cx="141120" cy="176040"/>
          </a:xfrm>
          <a:custGeom>
            <a:avLst/>
            <a:gdLst>
              <a:gd name="textAreaLeft" fmla="*/ 57960 w 141120"/>
              <a:gd name="textAreaRight" fmla="*/ 83160 w 141120"/>
              <a:gd name="textAreaTop" fmla="*/ 72360 h 176040"/>
              <a:gd name="textAreaBottom" fmla="*/ 103680 h 17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"/>
          <p:cNvSpPr/>
          <p:nvPr/>
        </p:nvSpPr>
        <p:spPr>
          <a:xfrm>
            <a:off x="4321080" y="5900760"/>
            <a:ext cx="243000" cy="284040"/>
          </a:xfrm>
          <a:custGeom>
            <a:avLst/>
            <a:gdLst>
              <a:gd name="textAreaLeft" fmla="*/ 100080 w 243000"/>
              <a:gd name="textAreaRight" fmla="*/ 142920 w 243000"/>
              <a:gd name="textAreaTop" fmla="*/ 117000 h 284040"/>
              <a:gd name="textAreaBottom" fmla="*/ 167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"/>
          <p:cNvSpPr/>
          <p:nvPr/>
        </p:nvSpPr>
        <p:spPr>
          <a:xfrm>
            <a:off x="1454040" y="5311800"/>
            <a:ext cx="182520" cy="195120"/>
          </a:xfrm>
          <a:custGeom>
            <a:avLst/>
            <a:gdLst>
              <a:gd name="textAreaLeft" fmla="*/ 75240 w 182520"/>
              <a:gd name="textAreaRight" fmla="*/ 107280 w 182520"/>
              <a:gd name="textAreaTop" fmla="*/ 80280 h 195120"/>
              <a:gd name="textAreaBottom" fmla="*/ 114840 h 19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"/>
          <p:cNvSpPr/>
          <p:nvPr/>
        </p:nvSpPr>
        <p:spPr>
          <a:xfrm>
            <a:off x="3209760" y="5504040"/>
            <a:ext cx="181080" cy="195120"/>
          </a:xfrm>
          <a:custGeom>
            <a:avLst/>
            <a:gdLst>
              <a:gd name="textAreaLeft" fmla="*/ 74520 w 181080"/>
              <a:gd name="textAreaRight" fmla="*/ 106560 w 181080"/>
              <a:gd name="textAreaTop" fmla="*/ 80280 h 195120"/>
              <a:gd name="textAreaBottom" fmla="*/ 114840 h 19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"/>
          <p:cNvSpPr/>
          <p:nvPr/>
        </p:nvSpPr>
        <p:spPr>
          <a:xfrm>
            <a:off x="2176560" y="5757840"/>
            <a:ext cx="115920" cy="150840"/>
          </a:xfrm>
          <a:custGeom>
            <a:avLst/>
            <a:gdLst>
              <a:gd name="textAreaLeft" fmla="*/ 51840 w 115920"/>
              <a:gd name="textAreaRight" fmla="*/ 64080 w 115920"/>
              <a:gd name="textAreaTop" fmla="*/ 67320 h 150840"/>
              <a:gd name="textAreaBottom" fmla="*/ 835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55" y="9655"/>
                </a:lnTo>
                <a:lnTo>
                  <a:pt x="10800" y="0"/>
                </a:lnTo>
                <a:lnTo>
                  <a:pt x="11945" y="9655"/>
                </a:lnTo>
                <a:lnTo>
                  <a:pt x="21600" y="10800"/>
                </a:lnTo>
                <a:lnTo>
                  <a:pt x="11945" y="11945"/>
                </a:lnTo>
                <a:lnTo>
                  <a:pt x="10800" y="21600"/>
                </a:lnTo>
                <a:lnTo>
                  <a:pt x="9655" y="119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"/>
          <p:cNvSpPr/>
          <p:nvPr/>
        </p:nvSpPr>
        <p:spPr>
          <a:xfrm>
            <a:off x="4226040" y="5281560"/>
            <a:ext cx="185760" cy="250920"/>
          </a:xfrm>
          <a:custGeom>
            <a:avLst/>
            <a:gdLst>
              <a:gd name="textAreaLeft" fmla="*/ 78480 w 185760"/>
              <a:gd name="textAreaRight" fmla="*/ 107280 w 185760"/>
              <a:gd name="textAreaTop" fmla="*/ 105840 h 250920"/>
              <a:gd name="textAreaBottom" fmla="*/ 14508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5718240"/>
            <a:ext cx="114120" cy="128520"/>
          </a:xfrm>
          <a:custGeom>
            <a:avLst/>
            <a:gdLst>
              <a:gd name="textAreaLeft" fmla="*/ 47160 w 114120"/>
              <a:gd name="textAreaRight" fmla="*/ 66960 w 114120"/>
              <a:gd name="textAreaTop" fmla="*/ 52920 h 128520"/>
              <a:gd name="textAreaBottom" fmla="*/ 75600 h 1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"/>
          <p:cNvSpPr/>
          <p:nvPr/>
        </p:nvSpPr>
        <p:spPr>
          <a:xfrm>
            <a:off x="6672240" y="5816520"/>
            <a:ext cx="208080" cy="233280"/>
          </a:xfrm>
          <a:custGeom>
            <a:avLst/>
            <a:gdLst>
              <a:gd name="textAreaLeft" fmla="*/ 85680 w 208080"/>
              <a:gd name="textAreaRight" fmla="*/ 122400 w 208080"/>
              <a:gd name="textAreaTop" fmla="*/ 95760 h 233280"/>
              <a:gd name="textAreaBottom" fmla="*/ 1375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5" y="8885"/>
                </a:lnTo>
                <a:lnTo>
                  <a:pt x="10800" y="0"/>
                </a:lnTo>
                <a:lnTo>
                  <a:pt x="12715" y="8885"/>
                </a:lnTo>
                <a:lnTo>
                  <a:pt x="21600" y="10800"/>
                </a:lnTo>
                <a:lnTo>
                  <a:pt x="12715" y="12715"/>
                </a:lnTo>
                <a:lnTo>
                  <a:pt x="10800" y="21600"/>
                </a:lnTo>
                <a:lnTo>
                  <a:pt x="8885" y="1271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"/>
          <p:cNvSpPr/>
          <p:nvPr/>
        </p:nvSpPr>
        <p:spPr>
          <a:xfrm>
            <a:off x="7504200" y="4940280"/>
            <a:ext cx="252360" cy="271440"/>
          </a:xfrm>
          <a:custGeom>
            <a:avLst/>
            <a:gdLst>
              <a:gd name="textAreaLeft" fmla="*/ 104040 w 252360"/>
              <a:gd name="textAreaRight" fmla="*/ 148320 w 252360"/>
              <a:gd name="textAreaTop" fmla="*/ 111960 h 271440"/>
              <a:gd name="textAreaBottom" fmla="*/ 159480 h 27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"/>
          <p:cNvSpPr/>
          <p:nvPr/>
        </p:nvSpPr>
        <p:spPr>
          <a:xfrm>
            <a:off x="5975280" y="5762520"/>
            <a:ext cx="171360" cy="233640"/>
          </a:xfrm>
          <a:custGeom>
            <a:avLst/>
            <a:gdLst>
              <a:gd name="textAreaLeft" fmla="*/ 70560 w 171360"/>
              <a:gd name="textAreaRight" fmla="*/ 100800 w 171360"/>
              <a:gd name="textAreaTop" fmla="*/ 96120 h 233640"/>
              <a:gd name="textAreaBottom" fmla="*/ 137520 h 2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"/>
          <p:cNvSpPr/>
          <p:nvPr/>
        </p:nvSpPr>
        <p:spPr>
          <a:xfrm>
            <a:off x="6208560" y="4441680"/>
            <a:ext cx="244800" cy="265320"/>
          </a:xfrm>
          <a:custGeom>
            <a:avLst/>
            <a:gdLst>
              <a:gd name="textAreaLeft" fmla="*/ 100800 w 244800"/>
              <a:gd name="textAreaRight" fmla="*/ 144000 w 2448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"/>
          <p:cNvSpPr/>
          <p:nvPr/>
        </p:nvSpPr>
        <p:spPr>
          <a:xfrm>
            <a:off x="5808600" y="5486400"/>
            <a:ext cx="160560" cy="169920"/>
          </a:xfrm>
          <a:custGeom>
            <a:avLst/>
            <a:gdLst>
              <a:gd name="textAreaLeft" fmla="*/ 66240 w 160560"/>
              <a:gd name="textAreaRight" fmla="*/ 94320 w 160560"/>
              <a:gd name="textAreaTop" fmla="*/ 69840 h 169920"/>
              <a:gd name="textAreaBottom" fmla="*/ 100080 h 169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"/>
          <p:cNvSpPr/>
          <p:nvPr/>
        </p:nvSpPr>
        <p:spPr>
          <a:xfrm>
            <a:off x="8621640" y="4249800"/>
            <a:ext cx="219240" cy="220680"/>
          </a:xfrm>
          <a:custGeom>
            <a:avLst/>
            <a:gdLst>
              <a:gd name="textAreaLeft" fmla="*/ 90360 w 219240"/>
              <a:gd name="textAreaRight" fmla="*/ 128880 w 219240"/>
              <a:gd name="textAreaTop" fmla="*/ 90720 h 220680"/>
              <a:gd name="textAreaBottom" fmla="*/ 1299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"/>
          <p:cNvSpPr/>
          <p:nvPr/>
        </p:nvSpPr>
        <p:spPr>
          <a:xfrm>
            <a:off x="8177040" y="4221000"/>
            <a:ext cx="206640" cy="246240"/>
          </a:xfrm>
          <a:custGeom>
            <a:avLst/>
            <a:gdLst>
              <a:gd name="textAreaLeft" fmla="*/ 84960 w 206640"/>
              <a:gd name="textAreaRight" fmla="*/ 121680 w 206640"/>
              <a:gd name="textAreaTop" fmla="*/ 101520 h 246240"/>
              <a:gd name="textAreaBottom" fmla="*/ 14472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"/>
          <p:cNvSpPr/>
          <p:nvPr/>
        </p:nvSpPr>
        <p:spPr>
          <a:xfrm>
            <a:off x="8602560" y="3583080"/>
            <a:ext cx="177840" cy="220680"/>
          </a:xfrm>
          <a:custGeom>
            <a:avLst/>
            <a:gdLst>
              <a:gd name="textAreaLeft" fmla="*/ 73080 w 177840"/>
              <a:gd name="textAreaRight" fmla="*/ 104760 w 177840"/>
              <a:gd name="textAreaTop" fmla="*/ 90720 h 220680"/>
              <a:gd name="textAreaBottom" fmla="*/ 1299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5637240"/>
            <a:ext cx="150840" cy="1382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"/>
          <p:cNvSpPr/>
          <p:nvPr/>
        </p:nvSpPr>
        <p:spPr>
          <a:xfrm rot="20070600">
            <a:off x="937800" y="4714560"/>
            <a:ext cx="160560" cy="1666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"/>
          <p:cNvSpPr/>
          <p:nvPr/>
        </p:nvSpPr>
        <p:spPr>
          <a:xfrm>
            <a:off x="1220760" y="5425920"/>
            <a:ext cx="114480" cy="1429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"/>
          <p:cNvSpPr/>
          <p:nvPr/>
        </p:nvSpPr>
        <p:spPr>
          <a:xfrm rot="20590800">
            <a:off x="1644120" y="5052600"/>
            <a:ext cx="171720" cy="1396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"/>
          <p:cNvSpPr/>
          <p:nvPr/>
        </p:nvSpPr>
        <p:spPr>
          <a:xfrm>
            <a:off x="5543640" y="4641840"/>
            <a:ext cx="152280" cy="1904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"/>
          <p:cNvSpPr/>
          <p:nvPr/>
        </p:nvSpPr>
        <p:spPr>
          <a:xfrm>
            <a:off x="6597720" y="5435640"/>
            <a:ext cx="110880" cy="1141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"/>
          <p:cNvSpPr/>
          <p:nvPr/>
        </p:nvSpPr>
        <p:spPr>
          <a:xfrm>
            <a:off x="6413400" y="4978440"/>
            <a:ext cx="165240" cy="2095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"/>
          <p:cNvSpPr/>
          <p:nvPr/>
        </p:nvSpPr>
        <p:spPr>
          <a:xfrm>
            <a:off x="5372280" y="5911920"/>
            <a:ext cx="183960" cy="2030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"/>
          <p:cNvSpPr/>
          <p:nvPr/>
        </p:nvSpPr>
        <p:spPr>
          <a:xfrm>
            <a:off x="7753320" y="4368960"/>
            <a:ext cx="146160" cy="1774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"/>
          <p:cNvSpPr/>
          <p:nvPr/>
        </p:nvSpPr>
        <p:spPr>
          <a:xfrm>
            <a:off x="4656240" y="5656320"/>
            <a:ext cx="207720" cy="209520"/>
          </a:xfrm>
          <a:custGeom>
            <a:avLst/>
            <a:gdLst>
              <a:gd name="textAreaLeft" fmla="*/ 87840 w 207720"/>
              <a:gd name="textAreaRight" fmla="*/ 119880 w 207720"/>
              <a:gd name="textAreaTop" fmla="*/ 88560 h 209520"/>
              <a:gd name="textAreaBottom" fmla="*/ 120960 h 20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0" bIns="-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"/>
          <p:cNvSpPr/>
          <p:nvPr/>
        </p:nvSpPr>
        <p:spPr>
          <a:xfrm>
            <a:off x="5964120" y="4646520"/>
            <a:ext cx="231840" cy="298440"/>
          </a:xfrm>
          <a:custGeom>
            <a:avLst/>
            <a:gdLst>
              <a:gd name="textAreaLeft" fmla="*/ 95400 w 231840"/>
              <a:gd name="textAreaRight" fmla="*/ 136440 w 231840"/>
              <a:gd name="textAreaTop" fmla="*/ 122760 h 298440"/>
              <a:gd name="textAreaBottom" fmla="*/ 1756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"/>
          <p:cNvSpPr/>
          <p:nvPr/>
        </p:nvSpPr>
        <p:spPr>
          <a:xfrm>
            <a:off x="7926480" y="3637080"/>
            <a:ext cx="193680" cy="241200"/>
          </a:xfrm>
          <a:custGeom>
            <a:avLst/>
            <a:gdLst>
              <a:gd name="textAreaLeft" fmla="*/ 81720 w 193680"/>
              <a:gd name="textAreaRight" fmla="*/ 111960 w 193680"/>
              <a:gd name="textAreaTop" fmla="*/ 101880 h 241200"/>
              <a:gd name="textAreaBottom" fmla="*/ 1393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"/>
          <p:cNvSpPr/>
          <p:nvPr/>
        </p:nvSpPr>
        <p:spPr>
          <a:xfrm>
            <a:off x="7915320" y="4735440"/>
            <a:ext cx="218880" cy="265320"/>
          </a:xfrm>
          <a:custGeom>
            <a:avLst/>
            <a:gdLst>
              <a:gd name="textAreaLeft" fmla="*/ 92520 w 218880"/>
              <a:gd name="textAreaRight" fmla="*/ 126360 w 218880"/>
              <a:gd name="textAreaTop" fmla="*/ 111960 h 265320"/>
              <a:gd name="textAreaBottom" fmla="*/ 15336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"/>
          <p:cNvSpPr/>
          <p:nvPr/>
        </p:nvSpPr>
        <p:spPr>
          <a:xfrm>
            <a:off x="8325000" y="3232080"/>
            <a:ext cx="158760" cy="1778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"/>
          <p:cNvSpPr/>
          <p:nvPr/>
        </p:nvSpPr>
        <p:spPr>
          <a:xfrm>
            <a:off x="6718320" y="4260960"/>
            <a:ext cx="183960" cy="2030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"/>
          <p:cNvSpPr/>
          <p:nvPr/>
        </p:nvSpPr>
        <p:spPr>
          <a:xfrm>
            <a:off x="8477280" y="2930400"/>
            <a:ext cx="220680" cy="231840"/>
          </a:xfrm>
          <a:custGeom>
            <a:avLst/>
            <a:gdLst>
              <a:gd name="textAreaLeft" fmla="*/ 93240 w 220680"/>
              <a:gd name="textAreaRight" fmla="*/ 127440 w 220680"/>
              <a:gd name="textAreaTop" fmla="*/ 97920 h 231840"/>
              <a:gd name="textAreaBottom" fmla="*/ 133920 h 23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991040"/>
            <a:ext cx="146160" cy="1778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"/>
          <p:cNvSpPr/>
          <p:nvPr/>
        </p:nvSpPr>
        <p:spPr>
          <a:xfrm>
            <a:off x="7257960" y="4667400"/>
            <a:ext cx="158760" cy="1774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"/>
          <p:cNvSpPr/>
          <p:nvPr/>
        </p:nvSpPr>
        <p:spPr>
          <a:xfrm>
            <a:off x="7442280" y="5389560"/>
            <a:ext cx="122040" cy="1144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"/>
          <p:cNvSpPr/>
          <p:nvPr/>
        </p:nvSpPr>
        <p:spPr>
          <a:xfrm>
            <a:off x="6907320" y="5240160"/>
            <a:ext cx="187200" cy="258840"/>
          </a:xfrm>
          <a:custGeom>
            <a:avLst/>
            <a:gdLst>
              <a:gd name="textAreaLeft" fmla="*/ 81360 w 187200"/>
              <a:gd name="textAreaRight" fmla="*/ 105840 w 187200"/>
              <a:gd name="textAreaTop" fmla="*/ 112320 h 258840"/>
              <a:gd name="textAreaBottom" fmla="*/ 146520 h 25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83" y="9383"/>
                </a:lnTo>
                <a:lnTo>
                  <a:pt x="10800" y="0"/>
                </a:lnTo>
                <a:lnTo>
                  <a:pt x="12217" y="9383"/>
                </a:lnTo>
                <a:lnTo>
                  <a:pt x="21600" y="10800"/>
                </a:lnTo>
                <a:lnTo>
                  <a:pt x="12217" y="12217"/>
                </a:lnTo>
                <a:lnTo>
                  <a:pt x="10800" y="21600"/>
                </a:lnTo>
                <a:lnTo>
                  <a:pt x="9383" y="122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"/>
          <p:cNvSpPr/>
          <p:nvPr/>
        </p:nvSpPr>
        <p:spPr>
          <a:xfrm>
            <a:off x="6970680" y="5519880"/>
            <a:ext cx="168480" cy="245880"/>
          </a:xfrm>
          <a:custGeom>
            <a:avLst/>
            <a:gdLst>
              <a:gd name="textAreaLeft" fmla="*/ 69480 w 168480"/>
              <a:gd name="textAreaRight" fmla="*/ 99000 w 168480"/>
              <a:gd name="textAreaTop" fmla="*/ 101160 h 245880"/>
              <a:gd name="textAreaBottom" fmla="*/ 144720 h 24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"/>
          <p:cNvSpPr/>
          <p:nvPr/>
        </p:nvSpPr>
        <p:spPr>
          <a:xfrm rot="19411800">
            <a:off x="1765440" y="4906800"/>
            <a:ext cx="171360" cy="1400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"/>
          <p:cNvSpPr/>
          <p:nvPr/>
        </p:nvSpPr>
        <p:spPr>
          <a:xfrm rot="20590800">
            <a:off x="1230480" y="4917600"/>
            <a:ext cx="147600" cy="13176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"/>
          <p:cNvSpPr/>
          <p:nvPr/>
        </p:nvSpPr>
        <p:spPr>
          <a:xfrm rot="20104800">
            <a:off x="1432080" y="4995360"/>
            <a:ext cx="147600" cy="13176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"/>
          <p:cNvSpPr/>
          <p:nvPr/>
        </p:nvSpPr>
        <p:spPr>
          <a:xfrm rot="20334000">
            <a:off x="1133640" y="4766760"/>
            <a:ext cx="134640" cy="1256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"/>
          <p:cNvSpPr/>
          <p:nvPr/>
        </p:nvSpPr>
        <p:spPr>
          <a:xfrm>
            <a:off x="1689120" y="4842000"/>
            <a:ext cx="61920" cy="810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"/>
          <p:cNvSpPr/>
          <p:nvPr/>
        </p:nvSpPr>
        <p:spPr>
          <a:xfrm>
            <a:off x="3330720" y="5810400"/>
            <a:ext cx="122040" cy="9504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549760"/>
            <a:ext cx="127080" cy="1000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"/>
          <p:cNvSpPr/>
          <p:nvPr/>
        </p:nvSpPr>
        <p:spPr>
          <a:xfrm>
            <a:off x="3029040" y="5853240"/>
            <a:ext cx="114120" cy="128520"/>
          </a:xfrm>
          <a:custGeom>
            <a:avLst/>
            <a:gdLst>
              <a:gd name="textAreaLeft" fmla="*/ 47160 w 114120"/>
              <a:gd name="textAreaRight" fmla="*/ 66960 w 114120"/>
              <a:gd name="textAreaTop" fmla="*/ 52920 h 128520"/>
              <a:gd name="textAreaBottom" fmla="*/ 75600 h 1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"/>
          <p:cNvSpPr/>
          <p:nvPr/>
        </p:nvSpPr>
        <p:spPr>
          <a:xfrm>
            <a:off x="2392200" y="6026040"/>
            <a:ext cx="92160" cy="98640"/>
          </a:xfrm>
          <a:custGeom>
            <a:avLst/>
            <a:gdLst>
              <a:gd name="textAreaLeft" fmla="*/ 34920 w 92160"/>
              <a:gd name="textAreaRight" fmla="*/ 57240 w 92160"/>
              <a:gd name="textAreaTop" fmla="*/ 37440 h 98640"/>
              <a:gd name="textAreaBottom" fmla="*/ 61200 h 9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79" y="8179"/>
                </a:lnTo>
                <a:lnTo>
                  <a:pt x="10800" y="0"/>
                </a:lnTo>
                <a:lnTo>
                  <a:pt x="13421" y="8179"/>
                </a:lnTo>
                <a:lnTo>
                  <a:pt x="21600" y="10800"/>
                </a:lnTo>
                <a:lnTo>
                  <a:pt x="13421" y="13421"/>
                </a:lnTo>
                <a:lnTo>
                  <a:pt x="10800" y="21600"/>
                </a:lnTo>
                <a:lnTo>
                  <a:pt x="8179" y="1342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"/>
          <p:cNvSpPr/>
          <p:nvPr/>
        </p:nvSpPr>
        <p:spPr>
          <a:xfrm>
            <a:off x="2460600" y="5880240"/>
            <a:ext cx="87480" cy="117360"/>
          </a:xfrm>
          <a:custGeom>
            <a:avLst/>
            <a:gdLst>
              <a:gd name="textAreaLeft" fmla="*/ 31320 w 87480"/>
              <a:gd name="textAreaRight" fmla="*/ 56160 w 87480"/>
              <a:gd name="textAreaTop" fmla="*/ 42120 h 117360"/>
              <a:gd name="textAreaBottom" fmla="*/ 75240 h 117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781" y="7781"/>
                </a:lnTo>
                <a:lnTo>
                  <a:pt x="10800" y="0"/>
                </a:lnTo>
                <a:lnTo>
                  <a:pt x="13819" y="7781"/>
                </a:lnTo>
                <a:lnTo>
                  <a:pt x="21600" y="10800"/>
                </a:lnTo>
                <a:lnTo>
                  <a:pt x="13819" y="13819"/>
                </a:lnTo>
                <a:lnTo>
                  <a:pt x="10800" y="21600"/>
                </a:lnTo>
                <a:lnTo>
                  <a:pt x="7781" y="1381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"/>
          <p:cNvSpPr/>
          <p:nvPr/>
        </p:nvSpPr>
        <p:spPr>
          <a:xfrm>
            <a:off x="1189080" y="5746680"/>
            <a:ext cx="103320" cy="125640"/>
          </a:xfrm>
          <a:custGeom>
            <a:avLst/>
            <a:gdLst>
              <a:gd name="textAreaLeft" fmla="*/ 38880 w 103320"/>
              <a:gd name="textAreaRight" fmla="*/ 64440 w 103320"/>
              <a:gd name="textAreaTop" fmla="*/ 47160 h 125640"/>
              <a:gd name="textAreaBottom" fmla="*/ 78480 h 12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10" y="8110"/>
                </a:lnTo>
                <a:lnTo>
                  <a:pt x="10800" y="0"/>
                </a:lnTo>
                <a:lnTo>
                  <a:pt x="13490" y="8110"/>
                </a:lnTo>
                <a:lnTo>
                  <a:pt x="21600" y="10800"/>
                </a:lnTo>
                <a:lnTo>
                  <a:pt x="13490" y="13490"/>
                </a:lnTo>
                <a:lnTo>
                  <a:pt x="10800" y="21600"/>
                </a:lnTo>
                <a:lnTo>
                  <a:pt x="8110" y="1349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533920"/>
            <a:ext cx="122400" cy="168480"/>
          </a:xfrm>
          <a:custGeom>
            <a:avLst/>
            <a:gdLst>
              <a:gd name="textAreaLeft" fmla="*/ 38160 w 122400"/>
              <a:gd name="textAreaRight" fmla="*/ 84240 w 122400"/>
              <a:gd name="textAreaTop" fmla="*/ 52560 h 168480"/>
              <a:gd name="textAreaBottom" fmla="*/ 115920 h 1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753" y="6753"/>
                </a:lnTo>
                <a:lnTo>
                  <a:pt x="10800" y="0"/>
                </a:lnTo>
                <a:lnTo>
                  <a:pt x="14847" y="6753"/>
                </a:lnTo>
                <a:lnTo>
                  <a:pt x="21600" y="10800"/>
                </a:lnTo>
                <a:lnTo>
                  <a:pt x="14847" y="14847"/>
                </a:lnTo>
                <a:lnTo>
                  <a:pt x="10800" y="21600"/>
                </a:lnTo>
                <a:lnTo>
                  <a:pt x="6753" y="1484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"/>
          <p:cNvSpPr/>
          <p:nvPr/>
        </p:nvSpPr>
        <p:spPr>
          <a:xfrm>
            <a:off x="974880" y="5646600"/>
            <a:ext cx="136440" cy="192240"/>
          </a:xfrm>
          <a:custGeom>
            <a:avLst/>
            <a:gdLst>
              <a:gd name="textAreaLeft" fmla="*/ 56160 w 136440"/>
              <a:gd name="textAreaRight" fmla="*/ 80280 w 136440"/>
              <a:gd name="textAreaTop" fmla="*/ 79200 h 192240"/>
              <a:gd name="textAreaBottom" fmla="*/ 11304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"/>
          <p:cNvSpPr/>
          <p:nvPr/>
        </p:nvSpPr>
        <p:spPr>
          <a:xfrm>
            <a:off x="1887480" y="5792760"/>
            <a:ext cx="74520" cy="101520"/>
          </a:xfrm>
          <a:custGeom>
            <a:avLst/>
            <a:gdLst>
              <a:gd name="textAreaLeft" fmla="*/ 23400 w 74520"/>
              <a:gd name="textAreaRight" fmla="*/ 51120 w 74520"/>
              <a:gd name="textAreaTop" fmla="*/ 31680 h 101520"/>
              <a:gd name="textAreaBottom" fmla="*/ 69840 h 101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753" y="6753"/>
                </a:lnTo>
                <a:lnTo>
                  <a:pt x="10800" y="0"/>
                </a:lnTo>
                <a:lnTo>
                  <a:pt x="14847" y="6753"/>
                </a:lnTo>
                <a:lnTo>
                  <a:pt x="21600" y="10800"/>
                </a:lnTo>
                <a:lnTo>
                  <a:pt x="14847" y="14847"/>
                </a:lnTo>
                <a:lnTo>
                  <a:pt x="10800" y="21600"/>
                </a:lnTo>
                <a:lnTo>
                  <a:pt x="6753" y="1484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"/>
          <p:cNvSpPr/>
          <p:nvPr/>
        </p:nvSpPr>
        <p:spPr>
          <a:xfrm>
            <a:off x="1978200" y="5749920"/>
            <a:ext cx="122040" cy="168120"/>
          </a:xfrm>
          <a:custGeom>
            <a:avLst/>
            <a:gdLst>
              <a:gd name="textAreaLeft" fmla="*/ 38160 w 122040"/>
              <a:gd name="textAreaRight" fmla="*/ 83880 w 122040"/>
              <a:gd name="textAreaTop" fmla="*/ 52560 h 168120"/>
              <a:gd name="textAreaBottom" fmla="*/ 115560 h 16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753" y="6753"/>
                </a:lnTo>
                <a:lnTo>
                  <a:pt x="10800" y="0"/>
                </a:lnTo>
                <a:lnTo>
                  <a:pt x="14847" y="6753"/>
                </a:lnTo>
                <a:lnTo>
                  <a:pt x="21600" y="10800"/>
                </a:lnTo>
                <a:lnTo>
                  <a:pt x="14847" y="14847"/>
                </a:lnTo>
                <a:lnTo>
                  <a:pt x="10800" y="21600"/>
                </a:lnTo>
                <a:lnTo>
                  <a:pt x="6753" y="1484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"/>
          <p:cNvSpPr/>
          <p:nvPr/>
        </p:nvSpPr>
        <p:spPr>
          <a:xfrm>
            <a:off x="6124680" y="5445000"/>
            <a:ext cx="152280" cy="214560"/>
          </a:xfrm>
          <a:custGeom>
            <a:avLst/>
            <a:gdLst>
              <a:gd name="textAreaLeft" fmla="*/ 62640 w 152280"/>
              <a:gd name="textAreaRight" fmla="*/ 89640 w 152280"/>
              <a:gd name="textAreaTop" fmla="*/ 88200 h 214560"/>
              <a:gd name="textAreaBottom" fmla="*/ 12636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"/>
          <p:cNvSpPr/>
          <p:nvPr/>
        </p:nvSpPr>
        <p:spPr>
          <a:xfrm>
            <a:off x="5519880" y="5654520"/>
            <a:ext cx="156960" cy="152640"/>
          </a:xfrm>
          <a:custGeom>
            <a:avLst/>
            <a:gdLst>
              <a:gd name="textAreaLeft" fmla="*/ 64800 w 156960"/>
              <a:gd name="textAreaRight" fmla="*/ 92160 w 156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"/>
          <p:cNvSpPr/>
          <p:nvPr/>
        </p:nvSpPr>
        <p:spPr>
          <a:xfrm>
            <a:off x="5468760" y="5327640"/>
            <a:ext cx="128880" cy="162000"/>
          </a:xfrm>
          <a:custGeom>
            <a:avLst/>
            <a:gdLst>
              <a:gd name="textAreaLeft" fmla="*/ 52920 w 128880"/>
              <a:gd name="textAreaRight" fmla="*/ 75960 w 128880"/>
              <a:gd name="textAreaTop" fmla="*/ 66600 h 162000"/>
              <a:gd name="textAreaBottom" fmla="*/ 95400 h 16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"/>
          <p:cNvSpPr/>
          <p:nvPr/>
        </p:nvSpPr>
        <p:spPr>
          <a:xfrm>
            <a:off x="5730840" y="5842080"/>
            <a:ext cx="157320" cy="152280"/>
          </a:xfrm>
          <a:custGeom>
            <a:avLst/>
            <a:gdLst>
              <a:gd name="textAreaLeft" fmla="*/ 70200 w 157320"/>
              <a:gd name="textAreaRight" fmla="*/ 87120 w 157320"/>
              <a:gd name="textAreaTop" fmla="*/ 68040 h 152280"/>
              <a:gd name="textAreaBottom" fmla="*/ 842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49" y="9649"/>
                </a:lnTo>
                <a:lnTo>
                  <a:pt x="10800" y="0"/>
                </a:lnTo>
                <a:lnTo>
                  <a:pt x="11951" y="9649"/>
                </a:lnTo>
                <a:lnTo>
                  <a:pt x="21600" y="10800"/>
                </a:lnTo>
                <a:lnTo>
                  <a:pt x="11951" y="11951"/>
                </a:lnTo>
                <a:lnTo>
                  <a:pt x="10800" y="21600"/>
                </a:lnTo>
                <a:lnTo>
                  <a:pt x="9649" y="1195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"/>
          <p:cNvSpPr/>
          <p:nvPr/>
        </p:nvSpPr>
        <p:spPr>
          <a:xfrm>
            <a:off x="5327640" y="5648400"/>
            <a:ext cx="157320" cy="152280"/>
          </a:xfrm>
          <a:custGeom>
            <a:avLst/>
            <a:gdLst>
              <a:gd name="textAreaLeft" fmla="*/ 70200 w 157320"/>
              <a:gd name="textAreaRight" fmla="*/ 87120 w 157320"/>
              <a:gd name="textAreaTop" fmla="*/ 68040 h 152280"/>
              <a:gd name="textAreaBottom" fmla="*/ 842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49" y="9649"/>
                </a:lnTo>
                <a:lnTo>
                  <a:pt x="10800" y="0"/>
                </a:lnTo>
                <a:lnTo>
                  <a:pt x="11951" y="9649"/>
                </a:lnTo>
                <a:lnTo>
                  <a:pt x="21600" y="10800"/>
                </a:lnTo>
                <a:lnTo>
                  <a:pt x="11951" y="11951"/>
                </a:lnTo>
                <a:lnTo>
                  <a:pt x="10800" y="21600"/>
                </a:lnTo>
                <a:lnTo>
                  <a:pt x="9649" y="1195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"/>
          <p:cNvSpPr/>
          <p:nvPr/>
        </p:nvSpPr>
        <p:spPr>
          <a:xfrm>
            <a:off x="5005440" y="5759280"/>
            <a:ext cx="109440" cy="171720"/>
          </a:xfrm>
          <a:custGeom>
            <a:avLst/>
            <a:gdLst>
              <a:gd name="textAreaLeft" fmla="*/ 45000 w 109440"/>
              <a:gd name="textAreaRight" fmla="*/ 64440 w 109440"/>
              <a:gd name="textAreaTop" fmla="*/ 70560 h 171720"/>
              <a:gd name="textAreaBottom" fmla="*/ 101160 h 1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7203960" y="5241960"/>
            <a:ext cx="135000" cy="1429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"/>
          <p:cNvSpPr/>
          <p:nvPr/>
        </p:nvSpPr>
        <p:spPr>
          <a:xfrm>
            <a:off x="7675560" y="3890880"/>
            <a:ext cx="127080" cy="184320"/>
          </a:xfrm>
          <a:custGeom>
            <a:avLst/>
            <a:gdLst>
              <a:gd name="textAreaLeft" fmla="*/ 56880 w 127080"/>
              <a:gd name="textAreaRight" fmla="*/ 70200 w 127080"/>
              <a:gd name="textAreaTop" fmla="*/ 82440 h 184320"/>
              <a:gd name="textAreaBottom" fmla="*/ 1018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60" y="9660"/>
                </a:lnTo>
                <a:lnTo>
                  <a:pt x="10800" y="0"/>
                </a:lnTo>
                <a:lnTo>
                  <a:pt x="11940" y="9660"/>
                </a:lnTo>
                <a:lnTo>
                  <a:pt x="21600" y="10800"/>
                </a:lnTo>
                <a:lnTo>
                  <a:pt x="11940" y="11940"/>
                </a:lnTo>
                <a:lnTo>
                  <a:pt x="10800" y="21600"/>
                </a:lnTo>
                <a:lnTo>
                  <a:pt x="9660" y="1194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"/>
          <p:cNvSpPr/>
          <p:nvPr/>
        </p:nvSpPr>
        <p:spPr>
          <a:xfrm>
            <a:off x="7867800" y="3978360"/>
            <a:ext cx="126720" cy="183960"/>
          </a:xfrm>
          <a:custGeom>
            <a:avLst/>
            <a:gdLst>
              <a:gd name="textAreaLeft" fmla="*/ 53280 w 126720"/>
              <a:gd name="textAreaRight" fmla="*/ 73440 w 126720"/>
              <a:gd name="textAreaTop" fmla="*/ 77400 h 183960"/>
              <a:gd name="textAreaBottom" fmla="*/ 106560 h 18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90" y="9090"/>
                </a:lnTo>
                <a:lnTo>
                  <a:pt x="10800" y="0"/>
                </a:lnTo>
                <a:lnTo>
                  <a:pt x="12510" y="9090"/>
                </a:lnTo>
                <a:lnTo>
                  <a:pt x="21600" y="10800"/>
                </a:lnTo>
                <a:lnTo>
                  <a:pt x="12510" y="12510"/>
                </a:lnTo>
                <a:lnTo>
                  <a:pt x="10800" y="21600"/>
                </a:lnTo>
                <a:lnTo>
                  <a:pt x="9090" y="1251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"/>
          <p:cNvSpPr/>
          <p:nvPr/>
        </p:nvSpPr>
        <p:spPr>
          <a:xfrm>
            <a:off x="7311960" y="3708360"/>
            <a:ext cx="127080" cy="184320"/>
          </a:xfrm>
          <a:custGeom>
            <a:avLst/>
            <a:gdLst>
              <a:gd name="textAreaLeft" fmla="*/ 52200 w 127080"/>
              <a:gd name="textAreaRight" fmla="*/ 74880 w 127080"/>
              <a:gd name="textAreaTop" fmla="*/ 75960 h 184320"/>
              <a:gd name="textAreaBottom" fmla="*/ 108360 h 18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0" bIns="-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"/>
          <p:cNvSpPr/>
          <p:nvPr/>
        </p:nvSpPr>
        <p:spPr>
          <a:xfrm>
            <a:off x="8426520" y="3576600"/>
            <a:ext cx="115920" cy="1159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"/>
          <p:cNvSpPr/>
          <p:nvPr/>
        </p:nvSpPr>
        <p:spPr>
          <a:xfrm rot="19845000">
            <a:off x="8889480" y="3188880"/>
            <a:ext cx="182880" cy="231840"/>
          </a:xfrm>
          <a:custGeom>
            <a:avLst/>
            <a:gdLst>
              <a:gd name="textAreaLeft" fmla="*/ 77400 w 182880"/>
              <a:gd name="textAreaRight" fmla="*/ 105480 w 182880"/>
              <a:gd name="textAreaTop" fmla="*/ 97920 h 231840"/>
              <a:gd name="textAreaBottom" fmla="*/ 133920 h 23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"/>
          <p:cNvSpPr/>
          <p:nvPr/>
        </p:nvSpPr>
        <p:spPr>
          <a:xfrm rot="19845000">
            <a:off x="8961480" y="3471840"/>
            <a:ext cx="182520" cy="231840"/>
          </a:xfrm>
          <a:custGeom>
            <a:avLst/>
            <a:gdLst>
              <a:gd name="textAreaLeft" fmla="*/ 77040 w 182520"/>
              <a:gd name="textAreaRight" fmla="*/ 105480 w 182520"/>
              <a:gd name="textAreaTop" fmla="*/ 97920 h 231840"/>
              <a:gd name="textAreaBottom" fmla="*/ 133920 h 23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"/>
          <p:cNvSpPr/>
          <p:nvPr/>
        </p:nvSpPr>
        <p:spPr>
          <a:xfrm rot="19399200">
            <a:off x="8190000" y="3841560"/>
            <a:ext cx="120600" cy="182520"/>
          </a:xfrm>
          <a:custGeom>
            <a:avLst/>
            <a:gdLst>
              <a:gd name="textAreaLeft" fmla="*/ 49680 w 120600"/>
              <a:gd name="textAreaRight" fmla="*/ 70920 w 120600"/>
              <a:gd name="textAreaTop" fmla="*/ 75240 h 182520"/>
              <a:gd name="textAreaBottom" fmla="*/ 1072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4719600"/>
            <a:ext cx="201600" cy="190440"/>
          </a:xfrm>
          <a:custGeom>
            <a:avLst/>
            <a:gdLst>
              <a:gd name="textAreaLeft" fmla="*/ 83160 w 201600"/>
              <a:gd name="textAreaRight" fmla="*/ 118440 w 20160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5302080"/>
            <a:ext cx="212760" cy="220680"/>
          </a:xfrm>
          <a:custGeom>
            <a:avLst/>
            <a:gdLst>
              <a:gd name="textAreaLeft" fmla="*/ 87480 w 212760"/>
              <a:gd name="textAreaRight" fmla="*/ 125280 w 212760"/>
              <a:gd name="textAreaTop" fmla="*/ 90720 h 220680"/>
              <a:gd name="textAreaBottom" fmla="*/ 1299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"/>
          <p:cNvSpPr/>
          <p:nvPr/>
        </p:nvSpPr>
        <p:spPr>
          <a:xfrm>
            <a:off x="896760" y="5264280"/>
            <a:ext cx="201960" cy="190440"/>
          </a:xfrm>
          <a:custGeom>
            <a:avLst/>
            <a:gdLst>
              <a:gd name="textAreaLeft" fmla="*/ 83160 w 201960"/>
              <a:gd name="textAreaRight" fmla="*/ 118800 w 20196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"/>
          <p:cNvSpPr/>
          <p:nvPr/>
        </p:nvSpPr>
        <p:spPr>
          <a:xfrm>
            <a:off x="1776240" y="5027760"/>
            <a:ext cx="212760" cy="220680"/>
          </a:xfrm>
          <a:custGeom>
            <a:avLst/>
            <a:gdLst>
              <a:gd name="textAreaLeft" fmla="*/ 87480 w 212760"/>
              <a:gd name="textAreaRight" fmla="*/ 125280 w 212760"/>
              <a:gd name="textAreaTop" fmla="*/ 90720 h 220680"/>
              <a:gd name="textAreaBottom" fmla="*/ 1299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"/>
          <p:cNvSpPr/>
          <p:nvPr/>
        </p:nvSpPr>
        <p:spPr>
          <a:xfrm>
            <a:off x="281160" y="5302080"/>
            <a:ext cx="201600" cy="190800"/>
          </a:xfrm>
          <a:custGeom>
            <a:avLst/>
            <a:gdLst>
              <a:gd name="textAreaLeft" fmla="*/ 83160 w 201600"/>
              <a:gd name="textAreaRight" fmla="*/ 118440 w 201600"/>
              <a:gd name="textAreaTop" fmla="*/ 78480 h 190800"/>
              <a:gd name="textAreaBottom" fmla="*/ 112320 h 19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"/>
          <p:cNvSpPr/>
          <p:nvPr/>
        </p:nvSpPr>
        <p:spPr>
          <a:xfrm>
            <a:off x="1160640" y="5065560"/>
            <a:ext cx="212400" cy="220680"/>
          </a:xfrm>
          <a:custGeom>
            <a:avLst/>
            <a:gdLst>
              <a:gd name="textAreaLeft" fmla="*/ 87480 w 212400"/>
              <a:gd name="textAreaRight" fmla="*/ 124920 w 212400"/>
              <a:gd name="textAreaTop" fmla="*/ 90720 h 220680"/>
              <a:gd name="textAreaBottom" fmla="*/ 1299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"/>
          <p:cNvSpPr/>
          <p:nvPr/>
        </p:nvSpPr>
        <p:spPr>
          <a:xfrm>
            <a:off x="3857760" y="5445000"/>
            <a:ext cx="156960" cy="204840"/>
          </a:xfrm>
          <a:custGeom>
            <a:avLst/>
            <a:gdLst>
              <a:gd name="textAreaLeft" fmla="*/ 64800 w 156960"/>
              <a:gd name="textAreaRight" fmla="*/ 92160 w 156960"/>
              <a:gd name="textAreaTop" fmla="*/ 84240 h 204840"/>
              <a:gd name="textAreaBottom" fmla="*/ 1206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"/>
          <p:cNvSpPr/>
          <p:nvPr/>
        </p:nvSpPr>
        <p:spPr>
          <a:xfrm>
            <a:off x="4646520" y="5497560"/>
            <a:ext cx="185760" cy="250920"/>
          </a:xfrm>
          <a:custGeom>
            <a:avLst/>
            <a:gdLst>
              <a:gd name="textAreaLeft" fmla="*/ 78480 w 185760"/>
              <a:gd name="textAreaRight" fmla="*/ 107280 w 185760"/>
              <a:gd name="textAreaTop" fmla="*/ 105840 h 250920"/>
              <a:gd name="textAreaBottom" fmla="*/ 14508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"/>
          <p:cNvSpPr/>
          <p:nvPr/>
        </p:nvSpPr>
        <p:spPr>
          <a:xfrm>
            <a:off x="2765520" y="5975280"/>
            <a:ext cx="156960" cy="204840"/>
          </a:xfrm>
          <a:custGeom>
            <a:avLst/>
            <a:gdLst>
              <a:gd name="textAreaLeft" fmla="*/ 64800 w 156960"/>
              <a:gd name="textAreaRight" fmla="*/ 92160 w 156960"/>
              <a:gd name="textAreaTop" fmla="*/ 84240 h 204840"/>
              <a:gd name="textAreaBottom" fmla="*/ 1206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"/>
          <p:cNvSpPr/>
          <p:nvPr/>
        </p:nvSpPr>
        <p:spPr>
          <a:xfrm>
            <a:off x="3894120" y="5715000"/>
            <a:ext cx="185760" cy="250920"/>
          </a:xfrm>
          <a:custGeom>
            <a:avLst/>
            <a:gdLst>
              <a:gd name="textAreaLeft" fmla="*/ 78480 w 185760"/>
              <a:gd name="textAreaRight" fmla="*/ 107280 w 185760"/>
              <a:gd name="textAreaTop" fmla="*/ 105840 h 250920"/>
              <a:gd name="textAreaBottom" fmla="*/ 14508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"/>
          <p:cNvSpPr/>
          <p:nvPr/>
        </p:nvSpPr>
        <p:spPr>
          <a:xfrm>
            <a:off x="366840" y="5786280"/>
            <a:ext cx="215640" cy="227160"/>
          </a:xfrm>
          <a:custGeom>
            <a:avLst/>
            <a:gdLst>
              <a:gd name="textAreaLeft" fmla="*/ 88920 w 215640"/>
              <a:gd name="textAreaRight" fmla="*/ 126720 w 215640"/>
              <a:gd name="textAreaTop" fmla="*/ 93600 h 227160"/>
              <a:gd name="textAreaBottom" fmla="*/ 133560 h 22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"/>
          <p:cNvSpPr/>
          <p:nvPr/>
        </p:nvSpPr>
        <p:spPr>
          <a:xfrm>
            <a:off x="1749600" y="6091200"/>
            <a:ext cx="210960" cy="233280"/>
          </a:xfrm>
          <a:custGeom>
            <a:avLst/>
            <a:gdLst>
              <a:gd name="textAreaLeft" fmla="*/ 86760 w 210960"/>
              <a:gd name="textAreaRight" fmla="*/ 124200 w 210960"/>
              <a:gd name="textAreaTop" fmla="*/ 96120 h 233280"/>
              <a:gd name="textAreaBottom" fmla="*/ 137160 h 23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"/>
          <p:cNvSpPr/>
          <p:nvPr/>
        </p:nvSpPr>
        <p:spPr>
          <a:xfrm>
            <a:off x="644400" y="5764320"/>
            <a:ext cx="181080" cy="195120"/>
          </a:xfrm>
          <a:custGeom>
            <a:avLst/>
            <a:gdLst>
              <a:gd name="textAreaLeft" fmla="*/ 74520 w 181080"/>
              <a:gd name="textAreaRight" fmla="*/ 106560 w 181080"/>
              <a:gd name="textAreaTop" fmla="*/ 80280 h 195120"/>
              <a:gd name="textAreaBottom" fmla="*/ 114840 h 19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"/>
          <p:cNvSpPr/>
          <p:nvPr/>
        </p:nvSpPr>
        <p:spPr>
          <a:xfrm>
            <a:off x="1660680" y="5541840"/>
            <a:ext cx="185760" cy="250920"/>
          </a:xfrm>
          <a:custGeom>
            <a:avLst/>
            <a:gdLst>
              <a:gd name="textAreaLeft" fmla="*/ 78480 w 185760"/>
              <a:gd name="textAreaRight" fmla="*/ 107280 w 185760"/>
              <a:gd name="textAreaTop" fmla="*/ 105840 h 250920"/>
              <a:gd name="textAreaBottom" fmla="*/ 14508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"/>
          <p:cNvSpPr/>
          <p:nvPr/>
        </p:nvSpPr>
        <p:spPr>
          <a:xfrm>
            <a:off x="2440080" y="6019920"/>
            <a:ext cx="109440" cy="171360"/>
          </a:xfrm>
          <a:custGeom>
            <a:avLst/>
            <a:gdLst>
              <a:gd name="textAreaLeft" fmla="*/ 45000 w 109440"/>
              <a:gd name="textAreaRight" fmla="*/ 64440 w 109440"/>
              <a:gd name="textAreaTop" fmla="*/ 70560 h 171360"/>
              <a:gd name="textAreaBottom" fmla="*/ 100800 h 171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5919840"/>
            <a:ext cx="215640" cy="226800"/>
          </a:xfrm>
          <a:custGeom>
            <a:avLst/>
            <a:gdLst>
              <a:gd name="textAreaLeft" fmla="*/ 88920 w 215640"/>
              <a:gd name="textAreaRight" fmla="*/ 126720 w 215640"/>
              <a:gd name="textAreaTop" fmla="*/ 93240 h 226800"/>
              <a:gd name="textAreaBottom" fmla="*/ 133560 h 22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"/>
          <p:cNvSpPr/>
          <p:nvPr/>
        </p:nvSpPr>
        <p:spPr>
          <a:xfrm>
            <a:off x="1450800" y="5805360"/>
            <a:ext cx="211320" cy="284400"/>
          </a:xfrm>
          <a:custGeom>
            <a:avLst/>
            <a:gdLst>
              <a:gd name="textAreaLeft" fmla="*/ 87120 w 211320"/>
              <a:gd name="textAreaRight" fmla="*/ 124200 w 211320"/>
              <a:gd name="textAreaTop" fmla="*/ 117000 h 284400"/>
              <a:gd name="textAreaBottom" fmla="*/ 167400 h 28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"/>
          <p:cNvSpPr/>
          <p:nvPr/>
        </p:nvSpPr>
        <p:spPr>
          <a:xfrm>
            <a:off x="1082520" y="5897520"/>
            <a:ext cx="181080" cy="195480"/>
          </a:xfrm>
          <a:custGeom>
            <a:avLst/>
            <a:gdLst>
              <a:gd name="textAreaLeft" fmla="*/ 74520 w 181080"/>
              <a:gd name="textAreaRight" fmla="*/ 106560 w 181080"/>
              <a:gd name="textAreaTop" fmla="*/ 80640 h 195480"/>
              <a:gd name="textAreaBottom" fmla="*/ 114840 h 1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"/>
          <p:cNvSpPr/>
          <p:nvPr/>
        </p:nvSpPr>
        <p:spPr>
          <a:xfrm>
            <a:off x="2098800" y="5675400"/>
            <a:ext cx="185760" cy="250560"/>
          </a:xfrm>
          <a:custGeom>
            <a:avLst/>
            <a:gdLst>
              <a:gd name="textAreaLeft" fmla="*/ 78480 w 185760"/>
              <a:gd name="textAreaRight" fmla="*/ 107280 w 185760"/>
              <a:gd name="textAreaTop" fmla="*/ 105840 h 250560"/>
              <a:gd name="textAreaBottom" fmla="*/ 144720 h 25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4" y="9124"/>
                </a:lnTo>
                <a:lnTo>
                  <a:pt x="10800" y="0"/>
                </a:lnTo>
                <a:lnTo>
                  <a:pt x="12476" y="9124"/>
                </a:lnTo>
                <a:lnTo>
                  <a:pt x="21600" y="10800"/>
                </a:lnTo>
                <a:lnTo>
                  <a:pt x="12476" y="12476"/>
                </a:lnTo>
                <a:lnTo>
                  <a:pt x="10800" y="21600"/>
                </a:lnTo>
                <a:lnTo>
                  <a:pt x="9124" y="124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"/>
          <p:cNvSpPr/>
          <p:nvPr/>
        </p:nvSpPr>
        <p:spPr>
          <a:xfrm>
            <a:off x="2878200" y="6153120"/>
            <a:ext cx="109440" cy="171360"/>
          </a:xfrm>
          <a:custGeom>
            <a:avLst/>
            <a:gdLst>
              <a:gd name="textAreaLeft" fmla="*/ 45000 w 109440"/>
              <a:gd name="textAreaRight" fmla="*/ 64440 w 109440"/>
              <a:gd name="textAreaTop" fmla="*/ 70560 h 171360"/>
              <a:gd name="textAreaBottom" fmla="*/ 100800 h 171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333E-006 L 2.77778E-006 0.37153 E">
                                      <p:cBhvr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1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indefinite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1:39:49Z</dcterms:created>
  <dc:creator>YlmF</dc:creator>
  <dc:description/>
  <dc:language>en-US</dc:language>
  <cp:lastModifiedBy>CPIC</cp:lastModifiedBy>
  <dcterms:modified xsi:type="dcterms:W3CDTF">2015-07-07T08:40:23Z</dcterms:modified>
  <cp:revision>2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